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42C-6842-4EB9-B264-BC69E9D3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859-8F1B-44C6-99F0-F5494B71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EFA-3767-467C-9236-7299A1FA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ACF-24AB-4249-BAD5-9A206501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F2F-0C9B-4079-B706-A6C0900C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038C-BFE7-4434-A1DE-68FCEC83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AC7D-17BC-496A-8271-6B6FAB96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654-2A72-4957-94F1-F5A71A78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4A2C-D25B-4B2C-8ACA-4684916C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776D-C637-492B-8DD9-ADF5D82C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1C54-F21C-415C-A165-53B59959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EC88-9662-4BE8-B9BD-D7BDCCCA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69AF-FFDB-4621-9451-8F49D2311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382160" cy="819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008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ámky: 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  obrázek s logy je třeba umístit do záhlaví každého slidu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  do prezentace není možno umístit loga jiných subje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2:09:00Z</dcterms:created>
  <dc:creator>pekarj</dc:creator>
  <dc:description/>
  <dc:language>en-US</dc:language>
  <cp:lastModifiedBy>pekarj</cp:lastModifiedBy>
  <dcterms:modified xsi:type="dcterms:W3CDTF">2009-08-14T05:40:16Z</dcterms:modified>
  <cp:revision>2</cp:revision>
  <dc:subject/>
  <dc:title>Poznámka: obrázek s logy je třeba umístit do záhlaví každého slidu</dc:title>
</cp:coreProperties>
</file>